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19.wmf" ContentType="image/x-wmf"/>
  <Override PartName="/ppt/media/image4.bmp" ContentType="image/bmp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2.bmp" ContentType="image/bmp"/>
  <Override PartName="/ppt/media/image10.png" ContentType="image/png"/>
  <Override PartName="/ppt/media/image14.wmf" ContentType="image/x-wmf"/>
  <Override PartName="/ppt/media/image6.png" ContentType="image/png"/>
  <Override PartName="/ppt/media/image8.bmp" ContentType="image/bmp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bmp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bmp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19200" y="1214280"/>
            <a:ext cx="6410160" cy="4809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3600" y="1671480"/>
            <a:ext cx="4352760" cy="244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4680" y="-4680"/>
            <a:ext cx="4581360" cy="34383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67320" y="3424320"/>
            <a:ext cx="4581360" cy="34383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67320" y="-4680"/>
            <a:ext cx="4581360" cy="3438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4680" y="3424320"/>
            <a:ext cx="4581360" cy="34383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0"/>
            <a:ext cx="8841240" cy="6859800"/>
          </a:xfrm>
          <a:custGeom>
            <a:avLst/>
            <a:gdLst/>
            <a:ahLst/>
            <a:rect l="0" t="0" r="r" b="b"/>
            <a:pathLst>
              <a:path w="24559" h="19055">
                <a:moveTo>
                  <a:pt x="13034" y="3828"/>
                </a:moveTo>
                <a:lnTo>
                  <a:pt x="11053" y="1662"/>
                </a:lnTo>
                <a:lnTo>
                  <a:pt x="9721" y="5628"/>
                </a:lnTo>
                <a:lnTo>
                  <a:pt x="5120" y="3197"/>
                </a:lnTo>
                <a:lnTo>
                  <a:pt x="6108" y="6893"/>
                </a:lnTo>
                <a:lnTo>
                  <a:pt x="1331" y="7295"/>
                </a:lnTo>
                <a:lnTo>
                  <a:pt x="4472" y="10225"/>
                </a:lnTo>
                <a:lnTo>
                  <a:pt x="0" y="11358"/>
                </a:lnTo>
                <a:lnTo>
                  <a:pt x="3784" y="13559"/>
                </a:lnTo>
                <a:lnTo>
                  <a:pt x="1459" y="15725"/>
                </a:lnTo>
                <a:lnTo>
                  <a:pt x="5464" y="16091"/>
                </a:lnTo>
                <a:lnTo>
                  <a:pt x="5588" y="19055"/>
                </a:lnTo>
                <a:lnTo>
                  <a:pt x="8557" y="15989"/>
                </a:lnTo>
                <a:lnTo>
                  <a:pt x="9893" y="17388"/>
                </a:lnTo>
                <a:lnTo>
                  <a:pt x="11225" y="15323"/>
                </a:lnTo>
                <a:lnTo>
                  <a:pt x="13201" y="16620"/>
                </a:lnTo>
                <a:lnTo>
                  <a:pt x="13850" y="14058"/>
                </a:lnTo>
                <a:lnTo>
                  <a:pt x="16990" y="15323"/>
                </a:lnTo>
                <a:lnTo>
                  <a:pt x="16646" y="12659"/>
                </a:lnTo>
                <a:lnTo>
                  <a:pt x="21463" y="13788"/>
                </a:lnTo>
                <a:lnTo>
                  <a:pt x="18623" y="10860"/>
                </a:lnTo>
                <a:lnTo>
                  <a:pt x="20775" y="9960"/>
                </a:lnTo>
                <a:lnTo>
                  <a:pt x="19311" y="8292"/>
                </a:lnTo>
                <a:lnTo>
                  <a:pt x="24559" y="5861"/>
                </a:lnTo>
                <a:lnTo>
                  <a:pt x="18623" y="5760"/>
                </a:lnTo>
                <a:lnTo>
                  <a:pt x="20475" y="2796"/>
                </a:lnTo>
                <a:lnTo>
                  <a:pt x="16513" y="5094"/>
                </a:lnTo>
                <a:lnTo>
                  <a:pt x="16818" y="0"/>
                </a:lnTo>
                <a:lnTo>
                  <a:pt x="13034" y="3828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0"/>
            <a:ext cx="8841240" cy="6859800"/>
          </a:xfrm>
          <a:custGeom>
            <a:avLst/>
            <a:gdLst/>
            <a:ahLst/>
            <a:rect l="0" t="0" r="r" b="b"/>
            <a:pathLst>
              <a:path w="24559" h="19055">
                <a:moveTo>
                  <a:pt x="13034" y="3828"/>
                </a:moveTo>
                <a:lnTo>
                  <a:pt x="11053" y="1662"/>
                </a:lnTo>
                <a:lnTo>
                  <a:pt x="9721" y="5628"/>
                </a:lnTo>
                <a:lnTo>
                  <a:pt x="5120" y="3197"/>
                </a:lnTo>
                <a:lnTo>
                  <a:pt x="6108" y="6893"/>
                </a:lnTo>
                <a:lnTo>
                  <a:pt x="1331" y="7295"/>
                </a:lnTo>
                <a:lnTo>
                  <a:pt x="4472" y="10225"/>
                </a:lnTo>
                <a:lnTo>
                  <a:pt x="0" y="11358"/>
                </a:lnTo>
                <a:lnTo>
                  <a:pt x="3784" y="13559"/>
                </a:lnTo>
                <a:lnTo>
                  <a:pt x="1459" y="15725"/>
                </a:lnTo>
                <a:lnTo>
                  <a:pt x="5464" y="16091"/>
                </a:lnTo>
                <a:lnTo>
                  <a:pt x="5588" y="19055"/>
                </a:lnTo>
                <a:lnTo>
                  <a:pt x="8557" y="15989"/>
                </a:lnTo>
                <a:lnTo>
                  <a:pt x="9893" y="17388"/>
                </a:lnTo>
                <a:lnTo>
                  <a:pt x="11225" y="15323"/>
                </a:lnTo>
                <a:lnTo>
                  <a:pt x="13201" y="16620"/>
                </a:lnTo>
                <a:lnTo>
                  <a:pt x="13850" y="14058"/>
                </a:lnTo>
                <a:lnTo>
                  <a:pt x="16990" y="15323"/>
                </a:lnTo>
                <a:lnTo>
                  <a:pt x="16646" y="12659"/>
                </a:lnTo>
                <a:lnTo>
                  <a:pt x="21463" y="13788"/>
                </a:lnTo>
                <a:lnTo>
                  <a:pt x="18623" y="10860"/>
                </a:lnTo>
                <a:lnTo>
                  <a:pt x="20775" y="9960"/>
                </a:lnTo>
                <a:lnTo>
                  <a:pt x="19311" y="8292"/>
                </a:lnTo>
                <a:lnTo>
                  <a:pt x="24559" y="5861"/>
                </a:lnTo>
                <a:lnTo>
                  <a:pt x="18623" y="5760"/>
                </a:lnTo>
                <a:lnTo>
                  <a:pt x="20475" y="2796"/>
                </a:lnTo>
                <a:lnTo>
                  <a:pt x="16513" y="5094"/>
                </a:lnTo>
                <a:lnTo>
                  <a:pt x="16818" y="0"/>
                </a:lnTo>
                <a:lnTo>
                  <a:pt x="13034" y="3828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27440" y="71564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46360" y="25844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27840" y="250812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75560" y="410832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08520" y="8319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36720" y="40323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99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3360" y="19749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93920" y="250812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65520" y="342252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7274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1120" y="50990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51753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51753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8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2891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1520" y="14414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1120" y="12128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4840" y="342252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6760" y="21272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9933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3360" y="6033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16120" y="33012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79320" y="51753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1360" y="37476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65920" y="55562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65520" y="527040"/>
            <a:ext cx="927360" cy="927360"/>
          </a:xfrm>
          <a:custGeom>
            <a:avLst/>
            <a:gdLst/>
            <a:ahLst/>
            <a:rect l="0" t="0" r="r" b="b"/>
            <a:pathLst>
              <a:path w="2576" h="2576">
                <a:moveTo>
                  <a:pt x="1287" y="0"/>
                </a:moveTo>
                <a:lnTo>
                  <a:pt x="1417" y="736"/>
                </a:lnTo>
                <a:lnTo>
                  <a:pt x="1923" y="180"/>
                </a:lnTo>
                <a:lnTo>
                  <a:pt x="1690" y="880"/>
                </a:lnTo>
                <a:lnTo>
                  <a:pt x="2408" y="646"/>
                </a:lnTo>
                <a:lnTo>
                  <a:pt x="1851" y="1149"/>
                </a:lnTo>
                <a:lnTo>
                  <a:pt x="2576" y="1287"/>
                </a:lnTo>
                <a:lnTo>
                  <a:pt x="1851" y="1426"/>
                </a:lnTo>
                <a:lnTo>
                  <a:pt x="2408" y="1932"/>
                </a:lnTo>
                <a:lnTo>
                  <a:pt x="1689" y="1715"/>
                </a:lnTo>
                <a:lnTo>
                  <a:pt x="1923" y="2408"/>
                </a:lnTo>
                <a:lnTo>
                  <a:pt x="1438" y="1851"/>
                </a:lnTo>
                <a:lnTo>
                  <a:pt x="1274" y="2576"/>
                </a:lnTo>
                <a:lnTo>
                  <a:pt x="1133" y="1851"/>
                </a:lnTo>
                <a:lnTo>
                  <a:pt x="646" y="2408"/>
                </a:lnTo>
                <a:lnTo>
                  <a:pt x="880" y="1707"/>
                </a:lnTo>
                <a:lnTo>
                  <a:pt x="162" y="1941"/>
                </a:lnTo>
                <a:lnTo>
                  <a:pt x="718" y="1438"/>
                </a:lnTo>
                <a:lnTo>
                  <a:pt x="0" y="1293"/>
                </a:lnTo>
                <a:lnTo>
                  <a:pt x="718" y="1149"/>
                </a:lnTo>
                <a:lnTo>
                  <a:pt x="162" y="646"/>
                </a:lnTo>
                <a:lnTo>
                  <a:pt x="880" y="880"/>
                </a:lnTo>
                <a:lnTo>
                  <a:pt x="646" y="177"/>
                </a:lnTo>
                <a:lnTo>
                  <a:pt x="1131" y="736"/>
                </a:lnTo>
                <a:lnTo>
                  <a:pt x="1287" y="0"/>
                </a:lnTo>
                <a:close/>
              </a:path>
            </a:pathLst>
          </a:cu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15920" y="-114480"/>
            <a:ext cx="72010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6200" y="299880"/>
            <a:ext cx="8467560" cy="6257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15920" y="-114480"/>
            <a:ext cx="7201080" cy="69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9440" y="254160"/>
            <a:ext cx="6057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841240" cy="6859800"/>
          </a:xfrm>
          <a:custGeom>
            <a:avLst/>
            <a:gdLst/>
            <a:ahLst/>
            <a:rect l="0" t="0" r="r" b="b"/>
            <a:pathLst>
              <a:path w="24559" h="19055">
                <a:moveTo>
                  <a:pt x="13034" y="3828"/>
                </a:moveTo>
                <a:lnTo>
                  <a:pt x="11053" y="1662"/>
                </a:lnTo>
                <a:lnTo>
                  <a:pt x="9721" y="5628"/>
                </a:lnTo>
                <a:lnTo>
                  <a:pt x="5120" y="3197"/>
                </a:lnTo>
                <a:lnTo>
                  <a:pt x="6108" y="6893"/>
                </a:lnTo>
                <a:lnTo>
                  <a:pt x="1331" y="7295"/>
                </a:lnTo>
                <a:lnTo>
                  <a:pt x="4472" y="10225"/>
                </a:lnTo>
                <a:lnTo>
                  <a:pt x="0" y="11358"/>
                </a:lnTo>
                <a:lnTo>
                  <a:pt x="3784" y="13559"/>
                </a:lnTo>
                <a:lnTo>
                  <a:pt x="1459" y="15725"/>
                </a:lnTo>
                <a:lnTo>
                  <a:pt x="5464" y="16091"/>
                </a:lnTo>
                <a:lnTo>
                  <a:pt x="5588" y="19055"/>
                </a:lnTo>
                <a:lnTo>
                  <a:pt x="8557" y="15989"/>
                </a:lnTo>
                <a:lnTo>
                  <a:pt x="9893" y="17388"/>
                </a:lnTo>
                <a:lnTo>
                  <a:pt x="11225" y="15323"/>
                </a:lnTo>
                <a:lnTo>
                  <a:pt x="13201" y="16620"/>
                </a:lnTo>
                <a:lnTo>
                  <a:pt x="13850" y="14058"/>
                </a:lnTo>
                <a:lnTo>
                  <a:pt x="16990" y="15323"/>
                </a:lnTo>
                <a:lnTo>
                  <a:pt x="16646" y="12659"/>
                </a:lnTo>
                <a:lnTo>
                  <a:pt x="21463" y="13788"/>
                </a:lnTo>
                <a:lnTo>
                  <a:pt x="18623" y="10860"/>
                </a:lnTo>
                <a:lnTo>
                  <a:pt x="20775" y="9960"/>
                </a:lnTo>
                <a:lnTo>
                  <a:pt x="19311" y="8292"/>
                </a:lnTo>
                <a:lnTo>
                  <a:pt x="24559" y="5861"/>
                </a:lnTo>
                <a:lnTo>
                  <a:pt x="18623" y="5760"/>
                </a:lnTo>
                <a:lnTo>
                  <a:pt x="20475" y="2796"/>
                </a:lnTo>
                <a:lnTo>
                  <a:pt x="16513" y="5094"/>
                </a:lnTo>
                <a:lnTo>
                  <a:pt x="16818" y="0"/>
                </a:lnTo>
                <a:lnTo>
                  <a:pt x="13034" y="3828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837400" cy="688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7536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6956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19360" y="0"/>
            <a:ext cx="573264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4800" y="-34920"/>
            <a:ext cx="7578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3920" y="299880"/>
            <a:ext cx="8620200" cy="6257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3920" y="299880"/>
            <a:ext cx="8620200" cy="6257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99880" y="452520"/>
            <a:ext cx="8467560" cy="618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3920" y="223920"/>
            <a:ext cx="8543880" cy="63342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</dc:creator>
  <dc:description/>
  <dc:language>en-US</dc:language>
  <cp:lastModifiedBy>Richard</cp:lastModifiedBy>
  <cp:revision>0</cp:revision>
  <dc:subject/>
  <dc:title>No Slide Title</dc:title>
</cp:coreProperties>
</file>